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3A9-600C-4394-8EFB-182B70C3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EEC-E50C-42BD-BF9C-1C26959B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1BD-421C-475A-9565-53B2FE5F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561-8541-4148-AB58-09772FED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2CC-2CE3-4C60-8ED3-43F422FD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9D8-2ABE-4689-8503-D60CE439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09D-9F3D-4850-9A7D-B529D3A9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EE2-4EDB-4045-B58B-270FD79A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B5B-E23B-4445-8606-37EBBD9C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822-D3F9-48D1-BE3E-43E3F55A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45B-6611-4E33-9775-87260AA6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417-BFE3-47DA-A25A-97865286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CD70-A736-41E8-A435-3002CF7AC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ellsalive.com/" TargetMode="External"/><Relationship Id="rId2" Type="http://schemas.openxmlformats.org/officeDocument/2006/relationships/hyperlink" Target="http://www.biology.arizona.edu/cell_bio/cell_bio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ell Wall and Cell Membr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nulf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wr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i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adalu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Cell Wa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433680" cy="4419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0" y="190512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 is mainly made out of cellul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 functions to protect the cell and give it its shape like for a plant the cell wall helps it stand as it gr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walls mechanism is to act as a pressure vessel preventing over-expansion when water enters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ell Membr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81120" y="1447920"/>
            <a:ext cx="3962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ell membrane is a flexible boundary between the cell and its environment, to allow a steady supply of nutrients to come into the cell no matter what the external conditions a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 mechanism for the cell membrane is selective permeability, a process in which a membrane allows some molecules to pass through keeping others ou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2578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ellsaliv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iology.arizona.edu/cell_bio/cell_bio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37:52Z</dcterms:created>
  <dc:creator>architect</dc:creator>
  <dc:description/>
  <dc:language>en-US</dc:language>
  <cp:lastModifiedBy>Jennifer/Stites User</cp:lastModifiedBy>
  <cp:lastPrinted>2009-07-05T07:29:21Z</cp:lastPrinted>
  <dcterms:modified xsi:type="dcterms:W3CDTF">2009-07-11T00:52:39Z</dcterms:modified>
  <cp:revision>5</cp:revision>
  <dc:subject/>
  <dc:title>Cell Wall</dc:title>
</cp:coreProperties>
</file>