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F96B-9FBE-49FB-AC44-A39D7338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F2F3-6BD2-4020-B108-D79994DC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3993-892C-4DA6-ABA6-33ABBA22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F6CF-491B-428A-B6C2-0258F60F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D42B-EBBE-44E3-B96C-70A237EE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3E2A-C3DB-40E2-9E18-EAB562A1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9242-FA02-4BB2-BC92-897402B4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805-707B-464A-AD5F-DD4F3B49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4391-DF6C-47A6-A6ED-C22F20B5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4AD2-D80C-4E37-8456-024C2329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123F-54C8-4FDE-9BA1-B8D03EB4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AB06-229A-4534-9ACE-0F4A47A4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6D15-83B6-4DF4-8E7A-2BE39CB86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ellsalive.com/" TargetMode="External"/><Relationship Id="rId2" Type="http://schemas.openxmlformats.org/officeDocument/2006/relationships/hyperlink" Target="http://www.biology.arizona.edu/cell_bio/cell_bio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Cell Wall and Cell Membra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nulf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wr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i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uadalup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onotype Corsiva"/>
              </a:rPr>
              <a:t>Cell Wal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433680" cy="4419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0" y="190512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 wall is mainly made out of cellul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 wall functions to protect the cell and give it its shape like for a plant the cell wall helps it stand as it gr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 walls mechanism is to act as a pressure vessel preventing over-expansion when water enters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Cell Membra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81120" y="1447920"/>
            <a:ext cx="3962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cell membrane is a flexible boundary between the cell and its environment, to allow a steady supply of nutrients to come into the cell no matter what the external conditions ar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ne mechanism for the cell membrane is selective permeability, a process in which a membrane allows some molecules to pass through keeping others ou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525780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ellsaliv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iology.arizona.edu/cell_bio/cell_bio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37:52Z</dcterms:created>
  <dc:creator>architect</dc:creator>
  <dc:description/>
  <dc:language>en-US</dc:language>
  <cp:lastModifiedBy>Jennifer/Stites User</cp:lastModifiedBy>
  <cp:lastPrinted>2009-07-05T07:29:21Z</cp:lastPrinted>
  <dcterms:modified xsi:type="dcterms:W3CDTF">2009-07-11T00:52:39Z</dcterms:modified>
  <cp:revision>5</cp:revision>
  <dc:subject/>
  <dc:title>Cell Wall</dc:title>
</cp:coreProperties>
</file>