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EC6-F570-4BB4-848B-9BD152F3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02D-77BF-4D6A-B59A-67B4777A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815-AD11-4764-98DB-8AB7DBA0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2D4-94D3-4947-AB0A-5E14D06E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6D2-51EF-4986-AF7A-4F408A94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F07-7F68-42D7-89CB-107736F2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411-077B-4BEC-AFE0-D54B838A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DC3-3E51-466F-B8E2-972D491C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7A6-9BA9-469D-9B96-8E8EA02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60C-E68F-4B11-B8CE-6702A28E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4F4-719F-40E8-986E-2DF81E1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A7F-40E2-4762-ACFC-5D39A4E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1680-91B9-45C2-A035-8C21160C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" TargetMode="External"/><Relationship Id="rId2" Type="http://schemas.openxmlformats.org/officeDocument/2006/relationships/hyperlink" Target="http://www.biology.arizona.edu/cell_bio/cell_bio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Wall and 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nul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adalu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Cell W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4336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is mainly made out of cellu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functions to protect the cell and give it its shape like for a plant the cell wall helps it stand as it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s mechanism is to act as a pressure vessel preventing over-expansion when water enters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ell membrane is a flexible boundary between the cell and its environment, to allow a steady supply of nutrients to come into the cell no matter what the external conditions a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mechanism for the cell membrane is selective permeability, a process in which a membrane allows some molecules to pass through keeping others 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257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llsaliv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ology.arizona.edu/cell_bio/cell_bi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7:52Z</dcterms:created>
  <dc:creator>architect</dc:creator>
  <dc:description/>
  <dc:language>en-US</dc:language>
  <cp:lastModifiedBy>Jennifer/Stites User</cp:lastModifiedBy>
  <cp:lastPrinted>2009-07-05T07:29:21Z</cp:lastPrinted>
  <dcterms:modified xsi:type="dcterms:W3CDTF">2009-07-11T00:52:39Z</dcterms:modified>
  <cp:revision>5</cp:revision>
  <dc:subject/>
  <dc:title>Cell Wall</dc:title>
</cp:coreProperties>
</file>