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07B-AF3E-44E9-94F6-FFED36D6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444-121F-4454-99C0-6CC78FDB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A76-3A3A-4290-A608-48DC8DF2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F27-CEFC-4EEF-9B0D-5588CC1A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415-78F5-4E3A-B514-7C14098D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B74-3145-4351-90C5-736ABB52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DC3-CCF7-4D98-827A-0EA658A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FFA-DCBC-4BE1-B2FD-5E459AC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80B-9916-40AD-9C1F-99F77697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44C-E08A-411F-AFA0-10E49F7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D7F-A43E-4119-ADE2-B44F37D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99E-F180-4BC7-A6B7-BA01C4DA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6B94-FC76-4F63-821D-1E9D9CA5F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" TargetMode="External"/><Relationship Id="rId2" Type="http://schemas.openxmlformats.org/officeDocument/2006/relationships/hyperlink" Target="http://www.biology.arizona.edu/cell_bio/cell_bio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Wall and 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nul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adalu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Cell W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4336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is mainly made out of cellu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functions to protect the cell and give it its shape like for a plant the cell wall helps it stand as it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s mechanism is to act as a pressure vessel preventing over-expansion when water enters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ell membrane is a flexible boundary between the cell and its environment, to allow a steady supply of nutrients to come into the cell no matter what the external conditions a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mechanism for the cell membrane is selective permeability, a process in which a membrane allows some molecules to pass through keeping others 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257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llsaliv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ology.arizona.edu/cell_bio/cell_bi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7:52Z</dcterms:created>
  <dc:creator>architect</dc:creator>
  <dc:description/>
  <dc:language>en-US</dc:language>
  <cp:lastModifiedBy>Jennifer/Stites User</cp:lastModifiedBy>
  <cp:lastPrinted>2009-07-05T07:29:21Z</cp:lastPrinted>
  <dcterms:modified xsi:type="dcterms:W3CDTF">2009-07-11T00:52:39Z</dcterms:modified>
  <cp:revision>5</cp:revision>
  <dc:subject/>
  <dc:title>Cell Wall</dc:title>
</cp:coreProperties>
</file>