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6EDA-5A0B-4315-8D33-19CF3CD36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58FB-F3A8-44B3-A52C-81CD4583E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EBCA-6EDF-4F37-B568-EFE78A31E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11E3-61B6-47C3-8404-1ED8FD813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E04C-071F-4141-AA28-4118A1F8B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9176-D9F2-45CC-B5EA-9121DD656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6371-EB30-4FA7-A1EA-EAA36FCB7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DE96-AE92-493D-AE5C-B09768DAC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7E37-7F32-4D00-9105-F6F34A55D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7B66-D3C1-4280-9886-3AA7D392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ED70-4674-4A7B-B613-254B6365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94DC-F354-4414-8B3B-3DC843A8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75ADB-AE9A-4249-811D-6729FAF14F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ellsalive.com/" TargetMode="External"/><Relationship Id="rId2" Type="http://schemas.openxmlformats.org/officeDocument/2006/relationships/hyperlink" Target="http://www.biology.arizona.edu/cell_bio/cell_bio.html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Cell Wall and Cell Membra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y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nulf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wren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i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uadalup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Monotype Corsiva"/>
              </a:rPr>
              <a:t>Cell Wal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3433680" cy="44197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0" y="1905120"/>
            <a:ext cx="4572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ell wall is mainly made out of cellul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ell wall functions to protect the cell and give it its shape like for a plant the cell wall helps it stand as it gro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ell walls mechanism is to act as a pressure vessel preventing over-expansion when water enters the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Cell Membra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181120" y="1447920"/>
            <a:ext cx="3962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cell membrane is a flexible boundary between the cell and its environment, to allow a steady supply of nutrients to come into the cell no matter what the external conditions ar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ne mechanism for the cell membrane is selective permeability, a process in which a membrane allows some molecules to pass through keeping others ou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525780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cellsaliv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biology.arizona.edu/cell_bio/cell_bio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1T15:37:52Z</dcterms:created>
  <dc:creator>architect</dc:creator>
  <dc:description/>
  <dc:language>en-US</dc:language>
  <cp:lastModifiedBy>Jennifer/Stites User</cp:lastModifiedBy>
  <cp:lastPrinted>2009-07-05T07:29:21Z</cp:lastPrinted>
  <dcterms:modified xsi:type="dcterms:W3CDTF">2009-07-11T00:52:39Z</dcterms:modified>
  <cp:revision>5</cp:revision>
  <dc:subject/>
  <dc:title>Cell Wall</dc:title>
</cp:coreProperties>
</file>