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953-D46E-4FBE-984C-0AFB60C6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95F6-165C-44A8-8219-3C9FDE1E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459F-7331-4E09-B58C-08E0368F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D62E-EF65-4F57-BB85-642CB0F4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04CD-B5FE-4CB5-A78A-90F4E6C3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9ECD-9517-49FB-942F-40C54F17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9B2-7E65-455F-AFE7-A7D5CF5B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F656-5448-42D6-A08F-F720DDA7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B44-F3E7-4BA9-825E-E03FFD2E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336C-FD03-4644-958B-58147ECE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359-43B6-4CD3-8E13-AB223BB3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622-E2F8-496B-8F9A-6D7D91C7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01B0-1B47-4CA2-9D32-9F44C7E60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ellsalive.com/" TargetMode="External"/><Relationship Id="rId2" Type="http://schemas.openxmlformats.org/officeDocument/2006/relationships/hyperlink" Target="http://www.biology.arizona.edu/cell_bio/cell_bio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Cell Wall and Cell Membr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nulf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wr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i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uadalup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Cell Wa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433680" cy="4419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0" y="190512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wall is mainly made out of cellul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wall functions to protect the cell and give it its shape like for a plant the cell wall helps it stand as it gr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walls mechanism is to act as a pressure vessel preventing over-expansion when water enters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Cell Membr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81120" y="1447920"/>
            <a:ext cx="3962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cell membrane is a flexible boundary between the cell and its environment, to allow a steady supply of nutrients to come into the cell no matter what the external conditions ar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e mechanism for the cell membrane is selective permeability, a process in which a membrane allows some molecules to pass through keeping others ou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52578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ellsaliv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iology.arizona.edu/cell_bio/cell_bio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37:52Z</dcterms:created>
  <dc:creator>architect</dc:creator>
  <dc:description/>
  <dc:language>en-US</dc:language>
  <cp:lastModifiedBy>Jennifer/Stites User</cp:lastModifiedBy>
  <cp:lastPrinted>2009-07-05T07:29:21Z</cp:lastPrinted>
  <dcterms:modified xsi:type="dcterms:W3CDTF">2009-07-11T00:52:39Z</dcterms:modified>
  <cp:revision>5</cp:revision>
  <dc:subject/>
  <dc:title>Cell Wall</dc:title>
</cp:coreProperties>
</file>