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80B79-3715-4D08-85EC-479182B79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F1760-6034-44D8-8609-61BD53DE0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F99F9-D052-4710-AA2A-792028F9B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C897A-1F45-440B-9C38-1704F81BB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DC1E1-1ED0-472B-A48E-05088FAD69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9380E-484A-4921-A250-5FD1F6F45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8C912-DA25-4CCA-BC98-24D83C6BD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D14E0-4CCB-40E1-A1FC-B6D76698A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E0D8E-685A-49A0-8C38-B5384684F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A2406-490B-40DF-BCE0-B2DF3BD84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86D77-EC07-4F5F-80AF-4AD6575C7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E4FD5-0967-473D-8602-BFC7609A8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D1B2D-AD79-42FA-B6BA-142429094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E53DC-FF59-4A99-89A1-1F980FC6F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6BCCF-0F7A-4603-B555-810962E3D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61244-C32A-4612-9051-49E963746D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273FE-2CEC-48B7-BF8E-F5E187721B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037C5-A9E1-4FB3-AEEA-CC6128453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AF3BF-75A7-4D00-A3ED-2E0115636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0247D-0C75-4AFA-BBF4-6FE8C4171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8BBE5-9406-42A0-941C-FF18D5C6C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88738-D2FF-4047-80B4-7F2139992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75728-0E23-4824-BA3E-EB17508BC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1893F-D041-427B-9330-EB7076D05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A502-CD34-4A9A-B9B6-D62D091DFE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AA1D-19B1-469D-B11C-6AE18056B3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hloroplasts</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alisa </a:t>
            </a:r>
            <a:br>
              <a:rPr sz="3200"/>
            </a:br>
            <a:r>
              <a:rPr b="0" lang="en-US" sz="3200" spc="-1" strike="noStrike">
                <a:solidFill>
                  <a:srgbClr val="ffffff"/>
                </a:solidFill>
                <a:latin typeface="Arial"/>
              </a:rPr>
              <a:t>                  Kirby </a:t>
            </a:r>
            <a:br>
              <a:rPr sz="3200"/>
            </a:br>
            <a:r>
              <a:rPr b="0" lang="en-US" sz="3200" spc="-1" strike="noStrike">
                <a:solidFill>
                  <a:srgbClr val="ffffff"/>
                </a:solidFill>
                <a:latin typeface="Arial"/>
              </a:rPr>
              <a:t>                 Deon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acts</a:t>
            </a:r>
            <a:br>
              <a:rPr sz="4400"/>
            </a:b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nd only in plant cells and other eukaryotic organisms that conduct photosynthesis.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loroplast have a green pigment which is used by the plants to prepare their food in the form of glucose. The thylakoids in chloroplast trap solar energy which activates the chloroplast which causes photolysis of water , breaking it into H+ and OH- ions. This is ultimately used up to prepare glucose through processes in which CO2 is produced and glucose is forme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s important because without energy of light it won’t produce the simple sugars that it feeds off of.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loroplasts Structure</a:t>
            </a:r>
            <a:endParaRPr b="1" lang="en-US" sz="4400" spc="-1" strike="noStrike">
              <a:solidFill>
                <a:srgbClr val="ffffb7"/>
              </a:solidFill>
              <a:latin typeface="Arial Black"/>
            </a:endParaRPr>
          </a:p>
        </p:txBody>
      </p:sp>
      <p:graphicFrame>
        <p:nvGraphicFramePr>
          <p:cNvPr id="103" name=""/>
          <p:cNvGraphicFramePr/>
          <p:nvPr/>
        </p:nvGraphicFramePr>
        <p:xfrm>
          <a:off x="2438280" y="2209680"/>
          <a:ext cx="4407120" cy="4341960"/>
        </p:xfrm>
        <a:graphic>
          <a:graphicData uri="http://schemas.openxmlformats.org/presentationml/2006/ole">
            <p:oleObj r:id="rId1" spid="">
              <p:embed/>
              <p:pic>
                <p:nvPicPr>
                  <p:cNvPr id="104" name="" descr=""/>
                  <p:cNvPicPr/>
                  <p:nvPr/>
                </p:nvPicPr>
                <p:blipFill>
                  <a:blip r:embed="rId2"/>
                  <a:stretch/>
                </p:blipFill>
                <p:spPr>
                  <a:xfrm>
                    <a:off x="2438280" y="2209680"/>
                    <a:ext cx="4407120" cy="434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1T15:21:54Z</dcterms:created>
  <dc:creator>Chicago Public Schools</dc:creator>
  <dc:description/>
  <dc:language>en-US</dc:language>
  <cp:lastModifiedBy>Jennifer/Stites User</cp:lastModifiedBy>
  <dcterms:modified xsi:type="dcterms:W3CDTF">2009-07-11T00:53:01Z</dcterms:modified>
  <cp:revision>3</cp:revision>
  <dc:subject/>
  <dc:title>Chloroplasts </dc:title>
</cp:coreProperties>
</file>