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2B9-F0AE-4149-BD13-9BBB5157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E28-6481-4316-B1E0-A9C2726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E4C-A934-4903-B834-8C8B3BA7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BE8-9B52-4331-8552-A842711C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3F6F-1330-4F8B-8683-06A9E3EF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0E8B-E6BD-4D2D-89B6-CFDAFAD7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3D0B-92B7-4A19-BA82-AD839F5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FA29-D121-4764-92BC-2A7BE86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F9E7-13DB-4B7B-BA84-544559D3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9810-EAD8-4462-977C-2DFFDFB3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0C8-173C-4ABA-9C3D-0F6355FB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72D-241E-4F2D-86F6-2D03676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D0C5-2E3F-4166-98B5-7DC04D9D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5262-59BC-4B22-9AEA-C88429B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361B-F4F1-436E-9C2D-366511B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BA27-8E39-41CC-B4D8-54C9A60C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58C6-9167-4B30-934A-2A480F88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C94-37C6-4FF9-BF34-2B43833A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B66-40BB-40FE-949D-F2908C0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63B-7C9C-4C20-BDE0-7C8AE74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53A-624B-4FA5-AE64-7175843C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882-A8B8-44ED-B300-A27FD65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692-F369-4754-B3C2-E49E3F4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2D8-19DD-423D-B4F2-5CB96064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B6B-60A6-477A-BC1B-5C197835B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382-5123-4EFC-BC60-A73D5B479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cellbio.ed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400"/>
            </a:b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&amp; Ribosomes 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’key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oplasmic reticulum is a eukaryotic organelle that forms an interconnected network of tubules and vesicles within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tructures are responsible for several specialized functions: protein translation and the folding and transport of proteins to be used in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the rough endoplasmic reticulum is studded with protein-manufacturing ribosomes giving it a "rough" appea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R is not always studded with these ribosomes, however initially, the RER appears smooth due to a lack of resident rib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Endoplasmic Reticulum </a:t>
            </a:r>
            <a:br>
              <a:rPr sz="4000"/>
            </a:b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Ribosome’s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transport to the cytoplasm through the nuclear envel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are not bound by a membrane and they are simple structures made of RNA and prot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osomes help to make proteins that perform tasks within the cytoplasm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the endoplasmic reticulum. It also shows the rough endoplasmic reticulum and the smooth endoplasmic ret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icture of  ribosomes in a cell. It shows the nuclear envelope, the nuclear pore, the Golgi apparatus and many other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451240"/>
            <a:ext cx="4194000" cy="333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eaae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googl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www.wikipedi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cellbio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5:24Z</dcterms:created>
  <dc:creator>school</dc:creator>
  <dc:description/>
  <dc:language>en-US</dc:language>
  <cp:lastModifiedBy>Jennifer/Stites User</cp:lastModifiedBy>
  <dcterms:modified xsi:type="dcterms:W3CDTF">2009-07-11T00:54:15Z</dcterms:modified>
  <cp:revision>7</cp:revision>
  <dc:subject/>
  <dc:title>Endoplasmic Reticulum Ribosome's </dc:title>
</cp:coreProperties>
</file>