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E90-209C-487F-B6B7-2FCA01B1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8F0-CCD4-4C17-9C7C-4CD38C6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AC6-413F-417D-A1A0-D4475015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3A4-2C2A-4733-A80A-1B646948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51F1-2641-42C0-B47D-DDCD4989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80E3-7F6D-422F-BDAB-9381DA33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39E7-F199-4EA7-9928-E1E7286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0749-1245-4B1B-B436-2343F726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2072-EB00-4E65-9B17-EB2F5C27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06D6-A04B-4CD6-9194-DF242A76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69CB-2CFE-4E89-B3C9-E485912E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F24-5433-46BC-A5CB-6968AFD7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66BF-94E4-4930-878D-4DF2037A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4302-1EA4-4B38-A478-BD73831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EEE7-5A9F-4AC2-A06C-EB95565C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363D-9139-4E2C-971B-519FA672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3A41-B11D-4768-8488-06FFCB11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E16-0942-4A02-9F3C-77594E3C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920-8225-454A-A894-4C5006AD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963-258D-4A79-9867-1CB6A172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96C-51EB-4965-A6DB-A2F7D2A3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E4D-F96A-4729-B20F-0E6C56E2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757-46D2-4D4D-BEFF-E9FE360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1FD-05AF-4F6E-9DC0-5E5F5EC2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35C-48A7-4DC3-BF80-5811C86B2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4713-5AA5-4F8B-8223-BE8FB5EB6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cellbio.ed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400"/>
            </a:b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&amp; Ribosomes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T’keya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oplasmic reticulum is a eukaryotic organelle that forms an interconnected network of tubules and vesicles within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tructures are responsible for several specialized functions: protein translation and the folding and transport of proteins to be used in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the rough endoplasmic reticulum is studded with protein-manufacturing ribosomes giving it a "rough" appea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R is not always studded with these ribosomes, however initially, the RER appears smooth due to a lack of resident rib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 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’s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transport to the cytoplasm through the nuclear envel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are not bound by a membrane and they are simple structures made of RNA and prot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help to make proteins that perform tasks within the cytoplasm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the endoplasmic reticulum. It also shows the rough endoplasmic reticulum and the smooth endoplasmic ret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 ribosomes in a cell. It shows the nuclear envelope, the nuclear pore, the Golgi apparatus and many other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451240"/>
            <a:ext cx="4194000" cy="333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googl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www.cellbio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5:24Z</dcterms:created>
  <dc:creator>school</dc:creator>
  <dc:description/>
  <dc:language>en-US</dc:language>
  <cp:lastModifiedBy>Jennifer/Stites User</cp:lastModifiedBy>
  <dcterms:modified xsi:type="dcterms:W3CDTF">2009-07-11T00:54:15Z</dcterms:modified>
  <cp:revision>7</cp:revision>
  <dc:subject/>
  <dc:title>Endoplasmic Reticulum Ribosome's </dc:title>
</cp:coreProperties>
</file>