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79D-0802-4506-B9B7-F8ED12EF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A2B-648E-4C14-B250-C8A0C820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267-2C13-49FB-A3F8-F3CC219C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988-5434-4A50-8353-C1C41E67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7592-4723-4DCF-89FA-0464A42C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90EA-5715-4FFE-AD72-2A294315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1398-2D94-45F0-BD86-22FE6BF5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9810-6052-4999-A765-B310C06E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B415-6782-42A5-8E11-13247200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66BE-1191-4F11-9C4C-58BC3325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2719-56AC-40F5-B3E6-A37098AB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19B-9F28-4AFE-8A83-67B3D3C2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9F84-561D-4557-A2E6-6F04FFE0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DDAA-71B4-4D5B-8691-A21C23BD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6A45-FC50-4FDD-A5EC-B3744AC6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5745-51D0-49FA-9C3F-7747E433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C024-F0B9-4E01-88C3-A0DECBA5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4F3-F1A9-44E9-B69A-F0FBAD6D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E03-B828-4B71-B1DA-EA1F5770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75A-CAFD-4991-97BB-78BC235C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BE0-1528-4BFA-B75B-50A43EBE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21C-BE63-4B57-855E-B67A8078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3D2-8207-4660-9B91-EFC110D7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734-D90D-48C1-88C6-F15979CD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DBEA-E120-4F2B-80E2-E6EB77EB1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DBE6-5BD3-4929-83E4-FCB6D8762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hyperlink" Target="http://www.cellbio.edu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400"/>
            </a:b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&amp; Ribosomes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T’keya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oplasmic reticulum is a eukaryotic organelle that forms an interconnected network of tubules and vesicles within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structures are responsible for several specialized functions: protein translation and the folding and transport of proteins to be used in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rface of the rough endoplasmic reticulum is studded with protein-manufacturing ribosomes giving it a "rough" appear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R is not always studded with these ribosomes, however initially, the RER appears smooth due to a lack of resident ribos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 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’s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transport to the cytoplasm through the nuclear envel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are not bound by a membrane and they are simple structures made of RNA and prote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help to make proteins that perform tasks within the cytoplasm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icture of the endoplasmic reticulum. It also shows the rough endoplasmic reticulum and the smooth endoplasmic reticul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83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icture of  ribosomes in a cell. It shows the nuclear envelope, the nuclear pore, the Golgi apparatus and many other 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2451240"/>
            <a:ext cx="4194000" cy="333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googl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www.wikipedi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www.cellbio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5:24Z</dcterms:created>
  <dc:creator>school</dc:creator>
  <dc:description/>
  <dc:language>en-US</dc:language>
  <cp:lastModifiedBy>Jennifer/Stites User</cp:lastModifiedBy>
  <dcterms:modified xsi:type="dcterms:W3CDTF">2009-07-11T00:54:15Z</dcterms:modified>
  <cp:revision>7</cp:revision>
  <dc:subject/>
  <dc:title>Endoplasmic Reticulum Ribosome's </dc:title>
</cp:coreProperties>
</file>