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38F5-1B60-432E-BCF4-045FF853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D99E-B30D-4075-B7A5-9AC6168F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16D3-2C9B-4135-8E3F-FD7587F8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AA8-EB68-4BBB-B262-7C553371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AA82-F25C-48C3-9ED9-9837E43C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A833-D1EC-4522-8B56-FC86E9EA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7ADF-4AB5-4C72-93BC-0BC7DD90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A7AA-B25D-49E4-96A6-0B513EA8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BF41-2088-40B9-A83B-1874180D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89A8-E27C-415F-B806-2A13803D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DF7A-B211-48F2-B143-157BCCA1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8A0B-6658-4F7A-8CB4-E9D748D9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9AF3-FE8D-4599-9960-538BE044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A7C6-07AE-43D3-B793-7788D469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75E3-BFEC-43D3-BB9B-245C9972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F226-8795-424D-9287-373FF79A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06B0-015B-4AF2-96FB-33A80B45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2461-CF28-4D57-9641-B482ED98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7D6-1F3C-4E77-B3D6-8739CFE5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DD1A-DA8A-4DC7-9D86-AD80B8B9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9AD1-648B-4490-9D87-A6D627FB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68AC-B8BE-48C6-B8B3-36AE0D2D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854C-0CEC-46B2-A6A3-7404CB9E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632-5B5D-48C2-AC78-B1BC3CDA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9752-AA6F-4E0F-92AC-E08A2F4CBF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0109-BB8F-4B81-9B35-0E09B69AF7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" TargetMode="External"/><Relationship Id="rId3" Type="http://schemas.openxmlformats.org/officeDocument/2006/relationships/hyperlink" Target="http://www.wikipedia.org/" TargetMode="External"/><Relationship Id="rId4" Type="http://schemas.openxmlformats.org/officeDocument/2006/relationships/hyperlink" Target="http://www.cellbio.edu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Endoplasmic Reticulum</a:t>
            </a:r>
            <a:br>
              <a:rPr sz="4400"/>
            </a:b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&amp; Ribosomes 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T’keya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nath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Endoplasmic Reticulum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Ribosomes</a:t>
            </a:r>
            <a:br>
              <a:rPr sz="4000"/>
            </a:b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doplasmic reticulum is a eukaryotic organelle that forms an interconnected network of tubules and vesicles within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structures are responsible for several specialized functions: protein translation and the folding and transport of proteins to be used in the cell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Endoplasmic Reticulum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Ribosomes</a:t>
            </a:r>
            <a:br>
              <a:rPr sz="4000"/>
            </a:b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rface of the rough endoplasmic reticulum is studded with protein-manufacturing ribosomes giving it a "rough" appear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R is not always studded with these ribosomes, however initially, the RER appears smooth due to a lack of resident riboso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Endoplasmic Reticulum 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Ribosome’s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osomes transport to the cytoplasm through the nuclear envel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osomes are not bound by a membrane and they are simple structures made of RNA and prote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osomes help to make proteins that perform tasks within the cytoplasm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Endoplasmic Reticulum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picture of the endoplasmic reticulum. It also shows the rough endoplasmic reticulum and the smooth endoplasmic reticul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648320" y="1676520"/>
            <a:ext cx="4190760" cy="441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Ribosomes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82844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picture of  ribosomes in a cell. It shows the nuclear envelope, the nuclear pore, the Golgi apparatus and many other th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04920" y="2451240"/>
            <a:ext cx="4194000" cy="3330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Sources</a:t>
            </a:r>
            <a:br>
              <a:rPr sz="4000"/>
            </a:b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www.googl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www.wikipedia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www.cellbio.ed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25:24Z</dcterms:created>
  <dc:creator>school</dc:creator>
  <dc:description/>
  <dc:language>en-US</dc:language>
  <cp:lastModifiedBy>Jennifer/Stites User</cp:lastModifiedBy>
  <dcterms:modified xsi:type="dcterms:W3CDTF">2009-07-11T00:54:15Z</dcterms:modified>
  <cp:revision>7</cp:revision>
  <dc:subject/>
  <dc:title>Endoplasmic Reticulum Ribosome's </dc:title>
</cp:coreProperties>
</file>