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808-B8B0-4F35-A123-69C0E99F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B3D-16D0-4CED-A39D-35EFF168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7B1-4168-402E-96E6-8651AA29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30D-1AFD-4E00-BC60-E3946AF6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B051-2714-4DEF-AEA4-6A9F11E8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4E38-43A6-4158-B527-87C6BA5F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824E-ABE2-4F54-90C7-69706289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4493-7ED2-4403-86ED-51204F7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621F-68B9-4644-8171-3A132119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A018-1ED9-49FA-AA6B-CFE6D69D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5E52-E1BD-428D-AC90-CCD92FB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C13-8EBD-4D0D-92EC-1653E52C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137F-A08A-44DA-8F0F-EFF64FE7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8942-CCF5-48E2-A7B9-5B9853F8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DC6D-3C2D-4669-A065-0E94D541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0616-BC9F-4E3C-BF7D-27EBB34D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D845-6326-4BE9-ADB6-F99690DF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8F3-AB51-48F4-B306-8AE1CDA2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8F3-BD83-4019-A99A-26D5872F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41B-4C05-465A-8CAC-64EFCFB0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DBF-D566-45A8-A4CE-C2B82723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9FA-48F2-45F0-A0A6-050BEB4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AB4-33EF-4004-8727-B942E65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35E-CB0E-479E-AE11-63E848A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8099-8C54-4F8A-991A-8B9FF0C9B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D59-9EAF-499C-A647-62EACB757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cellbio.ed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400"/>
            </a:b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&amp; Ribosomes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T’keya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oplasmic reticulum is a eukaryotic organelle that forms an interconnected network of tubules and vesicles within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tructures are responsible for several specialized functions: protein translation and the folding and transport of proteins to be used in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the rough endoplasmic reticulum is studded with protein-manufacturing ribosomes giving it a "rough" appea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R is not always studded with these ribosomes, however initially, the RER appears smooth due to a lack of resident rib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 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’s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transport to the cytoplasm through the nuclear envel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are not bound by a membrane and they are simple structures made of RNA and prot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help to make proteins that perform tasks within the cytoplasm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the endoplasmic reticulum. It also shows the rough endoplasmic reticulum and the smooth endoplasmic ret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 ribosomes in a cell. It shows the nuclear envelope, the nuclear pore, the Golgi apparatus and many other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451240"/>
            <a:ext cx="4194000" cy="333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googl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www.cellbio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5:24Z</dcterms:created>
  <dc:creator>school</dc:creator>
  <dc:description/>
  <dc:language>en-US</dc:language>
  <cp:lastModifiedBy>Jennifer/Stites User</cp:lastModifiedBy>
  <dcterms:modified xsi:type="dcterms:W3CDTF">2009-07-11T00:54:15Z</dcterms:modified>
  <cp:revision>7</cp:revision>
  <dc:subject/>
  <dc:title>Endoplasmic Reticulum Ribosome's </dc:title>
</cp:coreProperties>
</file>