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748B0-08F9-41FE-9ED2-80878400C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9AEEB-E7F5-4316-B465-C0E34E8C3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A2D49-0D87-4B36-A6A2-41FE87D7C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13C51-0C3E-43CA-95BB-7C50C89D4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EB111-72F9-43DF-976F-3F41D76CF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11652-B11D-43B2-B921-F04D103FE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5D1AB-61CE-4C35-ABD6-41D52C505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362D8-5DE4-4DC3-903F-B805A455D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D48FB-319A-4C09-906E-475671EC1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1E410-0575-42EC-9D6C-7BE1CE608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5C15A-9307-4351-9837-C73E1709E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C9F4-B163-43F5-8A82-E284A4DA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67CAA-8865-4BBE-9FCF-1C37A3065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7A5B0-0D73-4851-B592-CD9C3FFD1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F76B6-6AC4-4A65-9B0D-A1376DCC8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93F63-0177-42F6-8ABB-F5281C59B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41487-A8BE-465D-B31C-69E371B66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F3CB0-F1C1-4D66-8053-020E8CC9C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BD6FF-EAD1-48C2-9EB9-0FDFB4EE2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29E99-9CB1-4C48-9522-DBDA91FAA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9B46F-1A87-4047-A2B6-F8EC3677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19F29-D771-4D4D-A7D7-2E2140285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F7CC-3025-4FBE-B2BB-1BD7C180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2AE3B-EBDA-4C0D-A057-F69D2227A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CCE7-32C5-4108-A902-E77E3BD3B40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9CE8-7938-4E37-B877-759A02D1629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en.wikipedia.org/" TargetMode="External"/><Relationship Id="rId3" Type="http://schemas.openxmlformats.org/officeDocument/2006/relationships/hyperlink" Target="http://www.cellsalive.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Golgi Apparatus</a:t>
            </a:r>
            <a:endParaRPr b="0" lang="en-US" sz="66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00"/>
                </a:solidFill>
                <a:latin typeface="Arial Black"/>
              </a:rPr>
              <a:t>And Lysosomes</a:t>
            </a:r>
            <a:endParaRPr b="0" lang="en-US" sz="6600" spc="-1" strike="noStrike">
              <a:solidFill>
                <a:srgbClr val="ffcc00"/>
              </a:solidFill>
              <a:latin typeface="Arial Black"/>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Golgi Apparatus</a:t>
            </a:r>
            <a:endParaRPr b="0" lang="en-US" sz="72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tween four and eight are usually present; however, in some protists as many as sixty have been observed.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region contains different enzymes which modify the contents.</a:t>
            </a:r>
            <a:endParaRPr b="0" lang="en-US" sz="3200" spc="-1" strike="noStrike">
              <a:solidFill>
                <a:srgbClr val="ffcc00"/>
              </a:solidFill>
              <a:latin typeface="Arial Black"/>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Lysosomes</a:t>
            </a:r>
            <a:endParaRPr b="0" lang="en-US" sz="72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Lysosomes contain hydrolytic enzymes necessary for intracellular digestion. </a:t>
            </a:r>
            <a:endParaRPr b="0" lang="en-US" sz="2800" spc="-1" strike="noStrike">
              <a:solidFill>
                <a:srgbClr val="ffcc00"/>
              </a:solidFill>
              <a:latin typeface="Arial Black"/>
            </a:endParaRPr>
          </a:p>
          <a:p>
            <a:pPr marL="315360" indent="-31536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white blood cells that eat bacteria, lysosome contents are carefully released into the vacuole around the bacteria and serve to kill and digest those bacteria. This give it its nickname of “suicide bags”.</a:t>
            </a:r>
            <a:endParaRPr b="0" lang="en-US" sz="2800" spc="-1" strike="noStrike">
              <a:solidFill>
                <a:srgbClr val="ffcc00"/>
              </a:solidFill>
              <a:latin typeface="Arial Black"/>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Golgi Apparatus</a:t>
            </a:r>
            <a:endParaRPr b="0" lang="en-US" sz="7200" spc="-1" strike="noStrike">
              <a:solidFill>
                <a:srgbClr val="ffffff"/>
              </a:solidFill>
              <a:latin typeface="Arial Black"/>
            </a:endParaRPr>
          </a:p>
        </p:txBody>
      </p:sp>
      <p:sp>
        <p:nvSpPr>
          <p:cNvPr id="357"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 primarily modifies proteins delivered from the rough endoplasmic reticulum.</a:t>
            </a:r>
            <a:endParaRPr b="0" lang="en-US" sz="2400" spc="-1" strike="noStrike">
              <a:solidFill>
                <a:srgbClr val="ffcc00"/>
              </a:solidFill>
              <a:latin typeface="Arial Black"/>
            </a:endParaRPr>
          </a:p>
          <a:p>
            <a:pPr marL="339480" indent="-33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 is also involved in the transport of lipids around the cell, and the creation of lysosomes. </a:t>
            </a:r>
            <a:endParaRPr b="0" lang="en-US" sz="2400" spc="-1" strike="noStrike">
              <a:solidFill>
                <a:srgbClr val="ffcc00"/>
              </a:solidFill>
              <a:latin typeface="Arial Black"/>
            </a:endParaRPr>
          </a:p>
        </p:txBody>
      </p:sp>
      <p:pic>
        <p:nvPicPr>
          <p:cNvPr id="358" name="" descr=""/>
          <p:cNvPicPr/>
          <p:nvPr/>
        </p:nvPicPr>
        <p:blipFill>
          <a:blip r:embed="rId1"/>
          <a:stretch/>
        </p:blipFill>
        <p:spPr>
          <a:xfrm>
            <a:off x="4716360" y="3005280"/>
            <a:ext cx="3337200" cy="2577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ysosmes</a:t>
            </a:r>
            <a:endParaRPr b="0" lang="en-US" sz="4400" spc="-1" strike="noStrike">
              <a:solidFill>
                <a:srgbClr val="ffffff"/>
              </a:solidFill>
              <a:latin typeface="Arial Black"/>
            </a:endParaRPr>
          </a:p>
        </p:txBody>
      </p:sp>
      <p:sp>
        <p:nvSpPr>
          <p:cNvPr id="360"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ysosomes are organelles in the cell. These little parts are very important. They have chemicals in them that digest the wastes.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hen the cell dies the Lysosomes work swiftly with their chemicals and digest the dead cell.</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ithout Lysosomes living organisms would become filled with dead cells.</a:t>
            </a:r>
            <a:br>
              <a:rPr sz="1800"/>
            </a:br>
            <a:r>
              <a:rPr b="0" lang="en-US" sz="1800" spc="-1" strike="noStrike">
                <a:solidFill>
                  <a:srgbClr val="ffcc00"/>
                </a:solidFill>
                <a:latin typeface="Arial Black"/>
              </a:rPr>
              <a:t> </a:t>
            </a:r>
            <a:endParaRPr b="0" lang="en-US" sz="1800" spc="-1" strike="noStrike">
              <a:solidFill>
                <a:srgbClr val="ffcc00"/>
              </a:solidFill>
              <a:latin typeface="Arial Black"/>
            </a:endParaRPr>
          </a:p>
        </p:txBody>
      </p:sp>
      <p:pic>
        <p:nvPicPr>
          <p:cNvPr id="361" name="" descr=""/>
          <p:cNvPicPr/>
          <p:nvPr/>
        </p:nvPicPr>
        <p:blipFill>
          <a:blip r:embed="rId1"/>
          <a:stretch/>
        </p:blipFill>
        <p:spPr>
          <a:xfrm>
            <a:off x="4356000" y="2629080"/>
            <a:ext cx="4102200" cy="302400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www.google.co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2"/>
              </a:rPr>
              <a:t>http://en.wikipedia.org</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3"/>
              </a:rPr>
              <a:t>www.cellsalive.com</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ject Members</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manth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urici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heron </a:t>
            </a:r>
            <a:endParaRPr b="0" lang="en-US" sz="3200" spc="-1" strike="noStrike">
              <a:solidFill>
                <a:srgbClr val="ffcc00"/>
              </a:solidFill>
              <a:latin typeface="Arial Black"/>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15:32:22Z</dcterms:created>
  <dc:creator>school</dc:creator>
  <dc:description/>
  <dc:language>en-US</dc:language>
  <cp:lastModifiedBy>Jennifer/Stites User</cp:lastModifiedBy>
  <dcterms:modified xsi:type="dcterms:W3CDTF">2009-07-11T00:54:52Z</dcterms:modified>
  <cp:revision>9</cp:revision>
  <dc:subject/>
  <dc:title>Golgi Apparatus</dc:title>
</cp:coreProperties>
</file>