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A13-8622-4ADE-8030-FDF7729F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37C-44C0-44E1-BE6F-61F645A3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9134-F0FD-45E6-A52C-68552502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173-7432-4514-9939-7ACA7B76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91767-4AC0-4034-B841-A885A6E0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E311B-45D8-4F8A-9144-F4ED38C4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99F32-1CE7-4491-8F73-8D5BA6EA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9DBC2-FA6B-45B1-835D-E1F93067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037EF-6840-48B9-A2F8-1ACF74F9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E16C6-BB54-4742-B8F0-27065270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B0FAB-F1F8-4C87-820B-614AC5EB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640-E2F5-4DAD-A020-C933B9EC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01286-0945-4D90-850C-F0960FA4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AF6B4-5168-4C2A-8626-945EB1D0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AB2CF-9EB7-495D-8BB1-91FAE3C7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FBFCC-D099-4BAD-BA08-9E0109A0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58F0A-1BE3-46E4-AC88-56129731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E2C-2721-4DC4-8730-40E1C963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BE3-D758-43BF-8334-EDB3DE8B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AE6-40E9-49F5-8F1F-20B012AD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8C3-5A91-4B79-A9B6-43BBA23F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71E-83EB-41A3-AD99-C3E55A98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F7E-CE9F-4776-9CFC-40CB5C40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FB9-608B-4E06-842B-16268CFD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6927-A26D-44E8-9EDB-72363BECC7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E378-495B-4D94-B487-4B342277BB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Graphing Skills in Science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52480" y="3428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Portfolio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nnifer St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46520" y="1219320"/>
            <a:ext cx="280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66040" y="1219320"/>
            <a:ext cx="2666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7162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unit is to give students graph skills practice before starting a science fair project.  Students work in groups to interpret given graphs and then create graphs with given data.  Groups share their findings with the class through a brochure created on the compu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 Hope to Accomplis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elp students to become better at interpreting and analyzing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uide students to be able to design and create graphs for their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oster students’ abilities in evaluating scientific resea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urriculum-Framing 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sential Ques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is scientific research importa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t Questions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we interpret research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we use data to create graph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we evaluate scientific resear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Ques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this data tell us?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be an appropriate graph for this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nformation does this graph conv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8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udents will develop 21st century skills by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8077320" y="3809520"/>
            <a:ext cx="784872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209680"/>
            <a:ext cx="7315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Collaborating with pe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Analyzing data and drawing conclu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Solving problems and making decisions about grap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Communicating effectively with others in person and onl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Gauging Student Needs Assessment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1295280"/>
            <a:ext cx="716292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Purpose of the Assess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To gather information about what students already know and what they wonder about scientific researc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What I want to learn from my stu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I want to find out what they already know about analyzing data and what they know about creating grap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How I have tried to promote higher-order thin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I ask students to find relationships and draw conclusions about their data and the data from other grou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How the assessment information helps my students and I plan for activities in the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If students have misconceptions about  how to choose or create graphs, I can provide guidance. If students have different levels of understanding about reading graphs, I can provide various resources. We will revisit this assessment throughout the unit for students to add to their knowled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What feedback or additional ideas I’d li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I would like ideas for other ways to conduct my initial assessment. I am thinking of creating something on a wiki page or a online survey, but I’m not sure how to go about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229600" y="893880"/>
          <a:ext cx="380880" cy="36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893880"/>
                    <a:ext cx="3808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oals for My Student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how scientists think abou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how to recognize what kinds of data require what kinds of 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how to evaluate scientific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quest for Feedbac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 for helping students take more responsibility for their own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37Z</dcterms:created>
  <dc:creator>cbaker1X</dc:creator>
  <dc:description/>
  <dc:language>en-US</dc:language>
  <cp:lastModifiedBy>Jennifer/Stites User</cp:lastModifiedBy>
  <dcterms:modified xsi:type="dcterms:W3CDTF">2009-06-25T04:07:05Z</dcterms:modified>
  <cp:revision>32</cp:revision>
  <dc:subject/>
  <dc:title>Is it possible to conquer the impossibl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ct Phase">
    <vt:lpwstr>Module 2</vt:lpwstr>
  </property>
</Properties>
</file>