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400B-9865-4EA3-BCC2-DBC245984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998D-12D1-43F2-88A8-96128CF18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7B72-952C-4D0F-82CC-B80585524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903F-9DD5-4BA3-908B-3479115DF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33A902-7833-4B25-98E0-502272107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633A6A-D311-40A0-AF33-8CCAFD0D9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6FFF6B-23AD-4E61-A46B-00CAF4B5C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C6D9F5-BE8A-4B2F-8355-82B23021F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1FF90A-F0E2-49C6-AD74-24014B271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55DEA1-BB37-4337-99E4-284BA1F45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6CE431-0C6B-495E-8F9E-B80CB13D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D57E-94B9-4C03-A9D6-6FBF977E4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FAC737-7FA0-4343-9D66-730882E1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F37210-4F1F-44DD-A1DB-ED5B0489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1BA23E-BDA0-4703-A6A9-9057215E0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CBF83E-64E8-4044-95B5-0872A352B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DE9942-EA66-4046-B0E7-01DE6DD2D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1CA5-923A-4D2C-B543-9C1FBC51E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708C-B7E8-4A04-862A-D19E59CA9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55B2-81AC-440A-A2A5-3BDC53E64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5F8D-FE1E-4EBA-834E-A023D6E6A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1D1B-FF3F-4457-917E-E48173CAA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2F65-2038-44E2-8C1C-AC41E4F2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8007-B9DC-4DBF-8C6B-7125A7C6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8A9E4-7577-49E8-9402-EF1F86FDC8B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B8C44-1A62-403E-A958-8D448CBB43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9343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Graphing Skills in Science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752480" y="3428640"/>
            <a:ext cx="6400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t Portfolio Pres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nnifer Sti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Unit Summar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746520" y="1219320"/>
            <a:ext cx="28018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566040" y="1219320"/>
            <a:ext cx="26668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99840" y="1447560"/>
            <a:ext cx="7162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unit is to give students graph skills practice before starting a science fair project.  Students work in groups to interpret given graphs and then create graphs with given data.  Groups share their findings with the class through a brochure created on the compu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I Hope to Accomplish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help students to become better at interpreting and analyzing da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guide students to be able to design and create graphs for their da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foster students’ abilities in evaluating scientific resear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31560"/>
            <a:ext cx="77724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urriculum-Framing Questio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sential Ques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is scientific research importan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it Questions</a:t>
            </a:r>
            <a:br>
              <a:rPr sz="28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do we interpret research dat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do we use data to create graphs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do we evaluate scientific research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Ques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oes this data tell us?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ould be an appropriate graph for this dat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nformation does this graph conve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1284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tudents will develop 21st century skills by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-8077320" y="3809520"/>
            <a:ext cx="784872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447920" y="2209680"/>
            <a:ext cx="73152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Collaborating with pe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Analyzing data and drawing conclus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Solving problems and making decisions about graph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Communicating effectively with others in person and onli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Gauging Student Needs Assessment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371600" y="1295280"/>
            <a:ext cx="716292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aramond"/>
                <a:ea typeface="Arial"/>
              </a:rPr>
              <a:t>Purpose of the Assess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Arial"/>
              </a:rPr>
              <a:t>To gather information about what students already know and what they wonder about scientific research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aramond"/>
                <a:ea typeface="Arial"/>
              </a:rPr>
              <a:t>What I want to learn from my stud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Arial"/>
              </a:rPr>
              <a:t>I want to find out what they already know about analyzing data and what they know about creating graph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aramond"/>
                <a:ea typeface="Arial"/>
              </a:rPr>
              <a:t>How I have tried to promote higher-order think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Arial"/>
              </a:rPr>
              <a:t>I ask students to find relationships and draw conclusions about their data and the data from other group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aramond"/>
                <a:ea typeface="Arial"/>
              </a:rPr>
              <a:t>How the assessment information helps my students and I plan for activities in the un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Arial"/>
              </a:rPr>
              <a:t>If students have misconceptions about  how to choose or create graphs, I can provide guidance. If students have different levels of understanding about reading graphs, I can provide various resources. We will revisit this assessment throughout the unit for students to add to their knowled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aramond"/>
                <a:ea typeface="Arial"/>
              </a:rPr>
              <a:t>What feedback or additional ideas I’d lik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Arial"/>
              </a:rPr>
              <a:t>I would like ideas for other ways to conduct my initial assessment. I am thinking of creating something on a wiki page or a online survey, but I’m not sure how to go about 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8229600" y="893880"/>
          <a:ext cx="380880" cy="36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29600" y="893880"/>
                    <a:ext cx="38088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oals for My Students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1600" y="190512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learn how scientists think about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learn how to recognize what kinds of data require what kinds of grap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learn how to evaluate scientific resea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become more independent learn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quest for Feedbac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essment id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s for helping students take more responsibility for their own lear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16:17:37Z</dcterms:created>
  <dc:creator>cbaker1X</dc:creator>
  <dc:description/>
  <dc:language>en-US</dc:language>
  <cp:lastModifiedBy>Jennifer/Stites User</cp:lastModifiedBy>
  <dcterms:modified xsi:type="dcterms:W3CDTF">2009-06-25T04:07:05Z</dcterms:modified>
  <cp:revision>32</cp:revision>
  <dc:subject/>
  <dc:title>Is it possible to conquer the impossibl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oject Phase">
    <vt:lpwstr>Module 2</vt:lpwstr>
  </property>
</Properties>
</file>