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59D-696C-48C4-A54F-ACB93234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044-1B20-4DB0-AFE0-9A87293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414-F5A8-4420-8F54-5A2F20B9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A3B-3FE8-4FB4-98A2-05863C91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BE0BF-2389-432B-8E91-BAA27AE8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6DE08-5177-470A-AB26-9E54D032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234D8-CC27-4429-BCBB-D081C99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773FF-8B46-4E1E-B60F-75E6B28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C7F4-556A-4328-9273-D4AEF8E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FB9CE-54C6-4151-BADC-6DB3647B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50A7-8C4B-4A23-9E25-472F1A0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F50-4267-4707-892B-C201C31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98875-C5E6-4B5B-BA46-B6AE49B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A709B-A45B-4342-BCB1-42BA160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6C129-611B-4DE1-98BB-A2CEC47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B8C69-F18A-4D15-A906-0742FBBB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104C5-C486-4121-A4FC-3801C5D2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1F3-78FE-41F5-AB50-2642F82A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A6F-25F5-44AD-9A1E-20CB8574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311-3DEB-484F-9B82-30A55C4E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2FB-1DCA-4CFF-A963-35CA5D99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7CC-BCF7-4132-9472-0867445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C5B-51E7-4053-B279-C88CD0F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957-BEA4-4CC0-A7B6-8843BBD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D89-D889-4993-848D-B05B6B192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9A4-B93C-4E93-85E1-D1A223042D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Graphing Skills in Scienc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St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it is to give students graph skills practice before starting a science fair project.  Students work in groups to interpret given graphs and then create graphs with given data.  Groups share their findings with the class through a brochure created on th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 Hope to Accomplis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students to become better at interpreting and analyzing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uide students to be able to design and create graphs for thei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ster students’ abilities in evaluating scientific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Ques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scientific research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interpret research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use data to create graph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we evaluate scientific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is data tell us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be an appropriate graph for this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formation does this graph conv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ill develop 21st century skills by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8077320" y="3809520"/>
            <a:ext cx="784872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0968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Analyzing data and drawing conclu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Solving problems and making decisions about grap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Communicating effectively with others in person and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auging Student Needs Assessmen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295280"/>
            <a:ext cx="71629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To gather information about what students already know and what they wonder about scientific resear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I want to learn from my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ant to find out what they already know about analyzing data and what they know about creating grap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I have tried to promote higher-order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ask students to find relationships and draw conclusions about their data and the data from other gro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ow the assessment information helps my students and I plan for activities in th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f students have misconceptions about  how to choose or create graphs, I can provide guidance. If students have different levels of understanding about reading graphs, I can provide various resources. We will revisit this assessment throughout the unit for students to add to thei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What feedback or additional ideas I’d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 would like ideas for other ways to conduct my initial assessment. I am thinking of creating something on a wiki page or a online survey, but I’m not sure how to go about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29600" y="893880"/>
          <a:ext cx="380880" cy="36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893880"/>
                    <a:ext cx="380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als for My Studen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scientists think abou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recognize what kinds of data require what kinds of 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how to evaluate scientific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ennifer/Stites User</cp:lastModifiedBy>
  <dcterms:modified xsi:type="dcterms:W3CDTF">2009-06-25T04:07:05Z</dcterms:modified>
  <cp:revision>32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