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322-6124-40B6-BAB2-2D523DA0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5F5-0065-4A7D-AE88-94A0CFA2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3C0-4882-40D4-9120-6BC83419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8D1-EE63-474C-BB9A-0BB418FD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7AEE3-5B07-4B16-AEBC-B5E4C5BF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DF570-E50B-4C2D-8DED-373CA6E9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161AD-AC63-4B57-8802-4260B719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82F13-BE38-4CF0-9832-8E124EA1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9E987-8360-4FBF-8029-9F31528A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85D7D-A290-4597-8DC2-C90B706F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E6859-44BD-4CB5-A2B9-131C095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B0E-0066-4A11-BC88-D1326F81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F110B-EE91-4DDB-B0A8-866F838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8362F-4505-4B87-9DA6-53141AE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A31D4-BF12-4AC6-9B0A-F21EE5D6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64E68-40C0-4E06-8A1C-31058BE7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082BA-0C03-41F2-BD91-8527E578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1A7-0D05-49DF-BB0B-28020465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6C2-18EE-4BA8-9E24-B1167F0F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6F0-701B-4EA9-BF9B-07F9154E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58E-7E13-4309-AC14-81455F24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35A-259C-4D41-BDC2-9143E1F0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CB0-66FA-41F4-95F9-E052598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415-BEF4-4D54-8CD3-522C44C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E9A1-6FEE-4C8C-8757-799CDC15C8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851F-B97D-4556-82F1-B6E61EAF6C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Graphing Skills in Scienc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nifer St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unit is to give students graph skills practice before starting a science fair project.  Students work in groups to interpret given graphs and then create graphs with given data.  Groups share their findings with the class through a brochure created on the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 Hope to Accompli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students to become better at interpreting and analyzing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uide students to be able to design and create graphs for thei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ster students’ abilities in evaluating scientific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al Ques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scientific research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Questions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interpret research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use data to create graph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evaluate scientific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Ques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is data tell us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be an appropriate graph for this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nformation does this graph conv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will develop 21st century skills by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8077320" y="3809520"/>
            <a:ext cx="784872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20968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Collaborating with p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nalyzing data and drawing conclu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Solving problems and making decisions about grap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Communicating effectively with others in person and on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Gauging Student Needs Assessmen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295280"/>
            <a:ext cx="71629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Purpose of the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To gather information about what students already know and what they wonder about scientific researc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What I want to learn from my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want to find out what they already know about analyzing data and what they know about creating grap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ow I have tried to promote higher-order thi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ask students to find relationships and draw conclusions about their data and the data from other gro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ow the assessment information helps my students and I plan for activities in the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f students have misconceptions about  how to choose or create graphs, I can provide guidance. If students have different levels of understanding about reading graphs, I can provide various resources. We will revisit this assessment throughout the unit for students to add to their knowled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What feedback or additional ideas I’d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would like ideas for other ways to conduct my initial assessment. I am thinking of creating something on a wiki page or a online survey, but I’m not sure how to go about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229600" y="893880"/>
          <a:ext cx="380880" cy="36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893880"/>
                    <a:ext cx="380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als for My Studen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scientists think abo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to recognize what kinds of data require what kinds of 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to evaluate scientific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quest for 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 for helping students take more responsibility for their own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Jennifer/Stites User</cp:lastModifiedBy>
  <dcterms:modified xsi:type="dcterms:W3CDTF">2009-06-25T04:07:05Z</dcterms:modified>
  <cp:revision>32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