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EE9-28AD-44BD-8E4E-2736400D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DA0-D940-44AE-A8D2-B19AD90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0B6-AB5B-4FE7-A9B1-71618CA0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C71-0EB9-446D-8593-7A038A81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0D04-DBCD-41CC-B3F1-6FCA082C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D73D-F4CE-4A4F-A384-643C6A8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5770-E32F-4422-A5D9-341075A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C56-FAFC-4123-B105-8A855D6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E5F3-7177-4A28-A72D-B272384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C021-F9F8-4722-AFBD-997B513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2DA1-0B6C-4149-AA96-1D60218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373-551A-4CC0-855B-F702F593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2F33-BAB0-46BB-ABB5-2F0C553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EE1E-F721-42C4-B215-1B67D85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62FE-EB63-41B3-8B7F-30F02B87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E92-B9B8-4DB7-BEDA-15AC43AA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E606-3217-4AEE-9520-C3D2583D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372-3EEF-4452-B6F1-76AE23D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E81-A4F8-4FD6-B4CD-0E13F2AE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DCE-A26F-4771-8F65-C78429E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2A6-8175-48C9-93DD-CA935820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A18-F72D-4FF0-BAB2-31BE8E4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4F8-91BE-475E-98E4-D64D02D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D9A-E2FE-48C1-B0D2-BF75924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01E-AF3D-4648-8DD0-1962DEF20FCF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78BC-B01A-4DBC-AC53-B90705D00251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cc"/>
                </a:solidFill>
                <a:latin typeface="Blackadder ITC"/>
              </a:rPr>
              <a:t>The Mitochondria</a:t>
            </a:r>
            <a:endParaRPr b="0" lang="en-US" sz="8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314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 Rounded MT Bold"/>
              </a:rPr>
              <a:t>FACTS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are membrane bound organelles in plant and animal cells that transform energy for the cell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have an outer membrane and a highly folded inner membrane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energy contained in food is released by the mitochondria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is is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e Shape and Job of Mitochondria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granular and rod shaped, with an inner membrane that forms the long, narrow fol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used to store energy in the bonds of other molecules that cell organelles can access easily and quickly when energy is neede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e Parts of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outer membrane encloses the entire organelle and contains channels made up of proteins through which molecules and ions can move in and out of the mitochondria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ner membrane, folded into cristae, encloses the matrix (the internal  fluid)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termembrane space between the two membranes contains enzymes that use  ATP to phosphorylate  other nucleotides and that catalyze other reactions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Project Done By: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Nikita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Deonta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hermain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2:52Z</dcterms:created>
  <dc:creator>school</dc:creator>
  <dc:description/>
  <dc:language>en-US</dc:language>
  <cp:lastModifiedBy>Jennifer/Stites User</cp:lastModifiedBy>
  <dcterms:modified xsi:type="dcterms:W3CDTF">2009-07-11T00:55:24Z</dcterms:modified>
  <cp:revision>4</cp:revision>
  <dc:subject/>
  <dc:title>The Mitochondrion</dc:title>
</cp:coreProperties>
</file>