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27B4-493C-40FA-A0C6-3A0DD195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F432-C9BA-46EC-8889-3F9FD88C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B32-ED73-4D07-B7A6-8F3A3896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3BB-99E3-48E3-B208-E8200CF9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9B37-497B-4C6C-919E-F5353EDA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EBF3-CF5A-43FE-BAD5-70F72704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0CCA-BEE8-44B2-83C9-C1E33495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9307-47EF-42F1-B0F3-B72432BD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D4DD-23D5-4AF9-9841-FD416920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C4EB-B8C5-43EC-8E5F-988993B0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4E84-0692-447E-A3C4-07476844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BCCD-492B-47A7-85DC-E7BBF14B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4D5E-1071-41F0-9D03-89C6DA86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E141-5FF5-4234-ACEA-31848BA0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921B-1ED8-4FED-B4E4-98516ABF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562B-03A4-4FB1-AD5D-B25C5291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5233-FB00-423E-9760-5DDAFA03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BC93-F913-4C9B-84E0-7D833758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E3D2-856F-4048-82C1-8B2E9DC8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119-A522-423A-A9EC-20B13ED1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E20-C509-441C-AE89-3B2E45EC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0E6-A1AB-409C-9838-BEF6B2FC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DAD2-E5BA-49B7-B7BB-5B86A634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C847-ADE7-466B-BC53-2F26B4D2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cccc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cccc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2FA2-8A41-4C55-9872-87F18FA9DCC4}" type="slidenum">
              <a:rPr b="0" lang="en-US" sz="12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19E8-F5D8-449A-809C-71E6949A7800}" type="slidenum">
              <a:rPr b="0" lang="en-US" sz="12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cccc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cccc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cc"/>
                </a:solidFill>
                <a:latin typeface="Blackadder ITC"/>
              </a:rPr>
              <a:t>The Mitochondria</a:t>
            </a:r>
            <a:endParaRPr b="0" lang="en-US" sz="80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431496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 Rounded MT Bold"/>
              </a:rPr>
              <a:t>FACTS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The mitochondria are membrane bound organelles in plant and animal cells that transform energy for the cell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The mitochondria have an outer membrane and a highly folded inner membrane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The energy contained in food is released by the mitochondria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553080" cy="5334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This is the Mitochondria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The Shape and Job of Mitochondria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Mitochondria are granular and rod shaped, with an inner membrane that forms the long, narrow fold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Mitochondria are used to store energy in the bonds of other molecules that cell organelles can access easily and quickly when energy is needed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The Parts of the Mitochondria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Verdana"/>
              </a:rPr>
              <a:t>The outer membrane encloses the entire organelle and contains channels made up of proteins through which molecules and ions can move in and out of the mitochondria.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Verdana"/>
              </a:rPr>
              <a:t>The inner membrane, folded into cristae, encloses the matrix (the internal  fluid).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Verdana"/>
              </a:rPr>
              <a:t>The intermembrane space between the two membranes contains enzymes that use  ATP to phosphorylate  other nucleotides and that catalyze other reactions.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Project Done By: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Nikita 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Deontae 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hermaine 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32:52Z</dcterms:created>
  <dc:creator>school</dc:creator>
  <dc:description/>
  <dc:language>en-US</dc:language>
  <cp:lastModifiedBy>Jennifer/Stites User</cp:lastModifiedBy>
  <dcterms:modified xsi:type="dcterms:W3CDTF">2009-07-11T00:55:24Z</dcterms:modified>
  <cp:revision>4</cp:revision>
  <dc:subject/>
  <dc:title>The Mitochondrion</dc:title>
</cp:coreProperties>
</file>