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102-0657-4474-904B-4A6C8345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DD6-57F2-4719-91E7-B61FA3EC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643-AC38-493F-8A84-0B631011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2EA-E7E7-4DAB-9F12-9C2C6D8C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4BE9-2DC2-4C7B-AE68-8668D843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8B14-E285-45B6-B0C4-7350EDD1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D754-B853-495F-B5D9-41CA4CB0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FACE-7533-443C-8F99-B9493BE7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E27D-5C00-4B31-A350-CE9B028F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789C-2ED8-4028-8728-AC0F2B57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FDEA-47F5-4C85-8F1D-DE5B4332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566-DC64-42CB-8C15-BEF271BF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C239-5691-4E57-A4E6-67744619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2C3A-F8EA-4684-AE0B-3F2CCBA2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BD51-3655-4E7C-8CC8-4606D7BD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72B3-A02C-41C0-96E7-4CCCD85C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9A3A-B720-4E36-B3C2-71B43954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A02-A4F6-4B5E-AAD5-2E63F980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E4F2-9475-4C05-8F75-E55F202F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9C5-7743-41B0-A3A3-9200FAF7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D9D-EF22-4CE2-BA8C-494A1307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1D7-5559-42DF-9C35-E6DC3BA0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962-A50E-4EBD-A95B-9875A507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1B0-8407-426A-867C-6FF25AC2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660960" indent="-2541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017000" indent="-20340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4241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3173-7466-4988-BC88-E9EF7CE6FB76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19EC-0250-4153-920B-B9A6A5CB3AA2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cellsalive.com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us and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By: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arla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Lesheanna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Destiny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us was the first organelle to be discovered .The nucleus also known as the control center is a membrane enclosed organelle found in eukaryotic cell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It contains most of the cell’s genetic material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main structures making up the nucleus is the nuclear envelope a double membrane that encloses the entire organelle.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olus is a non-membrane bound structure composed of proteins and nucleic acids found within the nucleu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ribosomal RNA is transcribed in the nucleolu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re are three main parts that are recognized: the fibrillar centers, the dense fibrillar component, and the granular component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cell nucle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function of the nucleus is to maintain the integrity of the genes and to control the activities of the cell by regulating gene expression. 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nucleus is the control center of the cell. 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cell nucleus has the directions for the proteins.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667400" y="1828800"/>
            <a:ext cx="3752640" cy="426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olus  is the main part of the cell that produces the  ribosomes that make the proteins.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Sources 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www.google.com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www.cellsalive.com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www.wikipedia.org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20:03Z</dcterms:created>
  <dc:creator>tuldel</dc:creator>
  <dc:description/>
  <dc:language>en-US</dc:language>
  <cp:lastModifiedBy>Jennifer/Stites User</cp:lastModifiedBy>
  <dcterms:modified xsi:type="dcterms:W3CDTF">2009-07-11T00:55:51Z</dcterms:modified>
  <cp:revision>7</cp:revision>
  <dc:subject/>
  <dc:title>The Nucleus and Nucleolus</dc:title>
</cp:coreProperties>
</file>