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49F-B1CF-4C70-BDCD-F8A30D63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39C-5F37-48B7-910E-E5C12FA9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749-8FC5-4E23-B4EB-3586E19E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EC6-A22E-4449-9660-FF58BD80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1D71-E815-4189-9392-277FAF62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25E6-6F26-4321-AB77-D4575AA8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F577-DF1B-44D4-9C11-22A852B4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6295-B2F7-4848-A2EF-E1455C24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3BA0-9EBF-4353-8432-58DF9C70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DA3C-0F8E-4606-BFFD-22B3851C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0436-40AE-4FC4-81F8-75AD8A59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D2A-B832-46C9-A14B-9F86836F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096A-D40A-42D2-BAAA-84C3E576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F09C-2B2D-4B42-AC6F-86DE1BBF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B0F9-F6CF-4237-844F-7717547B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88E2-8E9F-455E-A026-EDD820C5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68FD-AA5E-411B-9193-CD1C60EB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0FA-7292-4F86-8665-6B85D875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034-68BA-499F-BEF4-D5FF076E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BD4-331B-480B-8D78-17FEBEDD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B2E-DB0B-406B-A076-06603D2D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DFE-1D0B-45DA-A9EA-3CCE4155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956-DBB2-41E6-9F59-3CFD1CAD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1A1-5029-4A8A-AD71-0C0F456B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cccc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cccc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7FE1-85F5-4784-8FC0-47E342B0CCEF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12EC-0BE4-414B-898F-C3344BFDC47A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cccc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cccc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cc"/>
                </a:solidFill>
                <a:latin typeface="Blackadder ITC"/>
              </a:rPr>
              <a:t>The Mitochondria</a:t>
            </a:r>
            <a:endParaRPr b="0" lang="en-US" sz="80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431496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 Rounded MT Bold"/>
              </a:rPr>
              <a:t>FACTS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mitochondria are membrane bound organelles in plant and animal cells that transform energy for the cell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mitochondria have an outer membrane and a highly folded inner membrane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energy contained in food is released by the mitochondria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553080" cy="5334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This is the Mitochondria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The Shape and Job of Mitochondria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Mitochondria are granular and rod shaped, with an inner membrane that forms the long, narrow fold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Mitochondria are used to store energy in the bonds of other molecules that cell organelles can access easily and quickly when energy is needed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The Parts of the Mitochondria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outer membrane encloses the entire organelle and contains channels made up of proteins through which molecules and ions can move in and out of the mitochondria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inner membrane, folded into cristae, encloses the matrix (the internal  fluid)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intermembrane space between the two membranes contains enzymes that use  ATP to phosphorylate  other nucleotides and that catalyze other reactions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Project Done By: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Nikita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Deontae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hermaine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32:52Z</dcterms:created>
  <dc:creator>school</dc:creator>
  <dc:description/>
  <dc:language>en-US</dc:language>
  <cp:lastModifiedBy>Jennifer/Stites User</cp:lastModifiedBy>
  <dcterms:modified xsi:type="dcterms:W3CDTF">2009-07-11T00:55:24Z</dcterms:modified>
  <cp:revision>4</cp:revision>
  <dc:subject/>
  <dc:title>The Mitochondrion</dc:title>
</cp:coreProperties>
</file>