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6B2-72E2-47C7-8C8A-0C6B81FC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CE6-A74F-4828-B9DE-92FCA514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978-E86A-44AE-803F-9CADA658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1EC-F5A9-4DCA-AD16-A6688DB9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D95E-E591-4F76-9C3F-1487E2AE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3DDD-A708-49A1-9351-684CFA62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B6A1-6B98-4CA4-B6AF-A1B1C692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BC09-5B45-45EE-BC75-0BA83746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ECF0-E570-44E3-A10E-60F70A6A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B514-F18A-493C-A0E2-5DCC8273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EC22-1D9B-472B-82CC-FE213931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348-F6C3-4735-9AE1-0A878139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EF0D-B80B-484F-BFF3-4A5BC6FA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8978-F037-45CA-B171-BF852DF8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AE73-AAB1-453F-BB07-FB7E1C3E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CF7D-6559-4191-8767-7CD09C4B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AE35-5211-4590-B928-D96CD5A7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471-F379-482C-B710-04028F35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3F3-1AC2-433C-BFF6-E7AA8643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0BE-02F4-4B48-87FE-470701A0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FB9-5DCE-4E2B-88AA-7EDA7516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F03-E65C-432E-8707-C0465AF4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AFC-0A9F-46E9-B722-DE87575E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294-1864-4AA6-9599-40829878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D345-364E-4158-A447-7A5A449B50AC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C24C-FFC6-4AF3-8FB8-60675AB76A79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cc"/>
                </a:solidFill>
                <a:latin typeface="Blackadder ITC"/>
              </a:rPr>
              <a:t>The Mitochondria</a:t>
            </a:r>
            <a:endParaRPr b="0" lang="en-US" sz="80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431496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 Rounded MT Bold"/>
              </a:rPr>
              <a:t>FACTS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mitochondria are membrane bound organelles in plant and animal cells that transform energy for the cell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mitochondria have an outer membrane and a highly folded inner membrane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energy contained in food is released by the mitochondria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This is the Mitochondria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The Shape and Job of Mitochondria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Mitochondria are granular and rod shaped, with an inner membrane that forms the long, narrow fold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Mitochondria are used to store energy in the bonds of other molecules that cell organelles can access easily and quickly when energy is needed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The Parts of the Mitochondria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outer membrane encloses the entire organelle and contains channels made up of proteins through which molecules and ions can move in and out of the mitochondria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inner membrane, folded into cristae, encloses the matrix (the internal  fluid)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intermembrane space between the two membranes contains enzymes that use  ATP to phosphorylate  other nucleotides and that catalyze other reactions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Project Done By: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Nikita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Deontae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hermaine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32:52Z</dcterms:created>
  <dc:creator>school</dc:creator>
  <dc:description/>
  <dc:language>en-US</dc:language>
  <cp:lastModifiedBy>Jennifer/Stites User</cp:lastModifiedBy>
  <dcterms:modified xsi:type="dcterms:W3CDTF">2009-07-11T00:55:24Z</dcterms:modified>
  <cp:revision>4</cp:revision>
  <dc:subject/>
  <dc:title>The Mitochondrion</dc:title>
</cp:coreProperties>
</file>