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69C-D5B3-48F8-8AFD-44A6BCB9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9EF-FB18-4DC0-9DC9-EE44BA87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922-EBBF-4CF8-8D24-EFA6E43A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FAD-FE4D-4908-A317-44DDAD53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C1F2-AF3C-4923-A9A0-F4BFF59D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52DD-9D25-4675-B390-50155A24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B2E7-EC6B-47E2-8D34-08516D3E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E308-64D4-411D-9520-5EA0CE6B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1318-D48B-4C4E-88F8-F8F8B378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016D-2F66-4175-98D5-2D00CB35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A55A-64F6-4C8D-9FCD-42C242DE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AB6-CA7E-40E6-BD62-B844EB6A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44BF-4C83-4183-A674-11C30F32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D815-99BB-4EE6-8293-81493436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735E-4CD6-4B5D-A0D8-F27152CF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51DA-A164-41B3-8DCC-00885F9B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0C9C-EF6C-4F40-8B09-4ABC7613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B07-F5DE-422C-8A78-B0A200B0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55D-C763-4803-A418-06BBBFB5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925-002D-4B48-937E-774881C7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265-7A7E-4A8B-85E7-35A7CF2A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29A-EB83-4FC7-AD6E-F90C7BD4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A4B-22CB-4B14-8B92-5EA0C408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6AD-08AF-4451-9AD4-FCD024FF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727920" indent="-28008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2" marL="1119960" indent="-223920">
              <a:spcBef>
                <a:spcPts val="726"/>
              </a:spcBef>
              <a:buClr>
                <a:srgbClr val="cccc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3" marL="1568160" indent="-22392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4" marL="2016000" indent="-223920">
              <a:spcBef>
                <a:spcPts val="726"/>
              </a:spcBef>
              <a:buClr>
                <a:srgbClr val="cccc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5" marL="2016000" indent="-223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6" marL="2016000" indent="-223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91D2-5C7C-452C-B4F2-7CAA0D3A131C}" type="slidenum">
              <a:rPr b="0" lang="en-US" sz="12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FDA8-4B42-4372-85DE-36772688CDB9}" type="slidenum">
              <a:rPr b="0" lang="en-US" sz="12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cccc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cccc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cc"/>
                </a:solidFill>
                <a:latin typeface="Blackadder ITC"/>
              </a:rPr>
              <a:t>The Mitochondria</a:t>
            </a:r>
            <a:endParaRPr b="0" lang="en-US" sz="80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431496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 Rounded MT Bold"/>
              </a:rPr>
              <a:t>FACTS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e mitochondria are membrane bound organelles in plant and animal cells that transform energy for the cell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e mitochondria have an outer membrane and a highly folded inner membrane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e energy contained in food is released by the mitochondria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553080" cy="5334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This is the Mitochondria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The Shape and Job of Mitochondria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Mitochondria are granular and rod shaped, with an inner membrane that forms the long, narrow fold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Mitochondria are used to store energy in the bonds of other molecules that cell organelles can access easily and quickly when energy is needed.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The Parts of the Mitochondria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The outer membrane encloses the entire organelle and contains channels made up of proteins through which molecules and ions can move in and out of the mitochondria.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The inner membrane, folded into cristae, encloses the matrix (the internal  fluid).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Verdana"/>
              </a:rPr>
              <a:t>The intermembrane space between the two membranes contains enzymes that use  ATP to phosphorylate  other nucleotides and that catalyze other reactions.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Project Done By: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Nikita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Deontae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hermaine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32:52Z</dcterms:created>
  <dc:creator>school</dc:creator>
  <dc:description/>
  <dc:language>en-US</dc:language>
  <cp:lastModifiedBy>Jennifer/Stites User</cp:lastModifiedBy>
  <dcterms:modified xsi:type="dcterms:W3CDTF">2009-07-11T00:55:24Z</dcterms:modified>
  <cp:revision>4</cp:revision>
  <dc:subject/>
  <dc:title>The Mitochondrion</dc:title>
</cp:coreProperties>
</file>