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9C4-3338-40D0-9B0B-BD5BFC49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B9C-40C7-4F6D-A8B3-35D8AE1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675-980F-4D65-BBD0-84A22E42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00E-6E96-4BDC-B8FA-39982E3A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AAD0-167C-486F-BC4A-D6FC48CE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0B95-CAA7-4F42-ADE3-D35577A9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716E-12A6-4A34-91E8-AB761C64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5585-62CD-469E-A340-003ADC20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671B-3DD3-4D48-83F0-C54CEFE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7FA4-F6B6-4AC7-9F1C-E1C9C880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1199-34FE-4F4D-9924-EB460F7A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DB1-B30A-41D1-97C7-FB7778B4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3ECF-B67C-40A0-99AC-60AAC29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A69A-B011-40A2-A374-B9A9D139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F2E3-FCF7-484C-AAC0-94FF8916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84D6-60C0-4F18-94FB-4B7F7610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F09A-DE4F-4E12-8863-96A4C46B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0FA-1073-4294-91BF-A1A5D211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C1D-454E-4281-B8DA-038F9331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4D9-A591-429C-93FE-C447BB9B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8FA-DDBF-4A01-845D-0A56FC58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CF0-BE47-45E1-BB02-18FC1FE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F05-04B1-4CAD-9935-CF459AE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591-00DF-4F34-9496-5AFAC80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DBDD-CB9A-4103-B33D-D6EDFBC11488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D11-79DD-4274-B7EB-35E4643DE57F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cellsaliv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 and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y: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arl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Lesheann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Destiny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us was the first organelle to be discovered .The nucleus also known as the control center is a membrane enclosed organelle found in eukaryotic cell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It contains most of the cell’s genetic material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main structures making up the nucleus is the nuclear envelope a double membrane that encloses the entire organelle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is a non-membrane bound structure composed of proteins and nucleic acids found within the nucle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ribosomal RNA is transcribed in the nucleol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re are three main parts that are recognized: the fibrillar centers, the dense fibrillar component, and the granular component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cell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function of the nucleus is to maintain the integrity of the genes and to control the activities of the cell by regulating gene expression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nucleus is the control center of the cell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cell nucleus has the directions for the proteins.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67400" y="1828800"/>
            <a:ext cx="375264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 is the main part of the cell that produces the  ribosomes that make the proteins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Sources 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googl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cellsaliv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www.wikipedia.org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0:03Z</dcterms:created>
  <dc:creator>tuldel</dc:creator>
  <dc:description/>
  <dc:language>en-US</dc:language>
  <cp:lastModifiedBy>Jennifer/Stites User</cp:lastModifiedBy>
  <dcterms:modified xsi:type="dcterms:W3CDTF">2009-07-11T00:55:51Z</dcterms:modified>
  <cp:revision>7</cp:revision>
  <dc:subject/>
  <dc:title>The Nucleus and Nucleolus</dc:title>
</cp:coreProperties>
</file>