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C8B5-0D25-4044-B811-16BB75FF0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D838-BB98-4AD5-9A6B-E9EA18FA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4E47-683C-4F94-A84D-B9712FA21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909C-0590-41A2-956C-372E0BAFF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58C1-82AB-4F3F-8430-A5FDA8969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1838-A8DD-4C06-AE09-0802B42F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BD63-82E4-465D-B881-A0BB64C3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73C2-7C2A-4F92-A3D3-8FE49746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BB460-0FA3-48BA-A0C3-F8518927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A788-8AAD-4F6B-89F4-5A78D966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966B-1D8D-4E9A-B4C8-97307CA1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2674-DFD3-47D5-8186-4070BA04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BF48-D29A-4AA7-9BD5-D6CE90E2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55D4-6A40-4E0C-8448-31F880C4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C2B7-EB05-4AF1-90F0-323CFC75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BA3D-8FBD-40DD-BB8E-D124AC821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EA86-EDCF-4FF4-A671-985182784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6085-2808-455D-BDA7-21BED2ED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C846-1493-460A-9677-3772A653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F8A7-B200-44FF-8446-2325735C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22A3-0FDD-4E12-87CF-92A1D616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7D3A-4B23-42E1-A18D-EA8F15A2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FC05-1C26-414D-B662-1F1D438E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479C-E5D2-47A2-B01E-EFF232F1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a4"/>
                    </a:gs>
                    <a:gs pos="100000">
                      <a:srgbClr val="0000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4e8ac"/>
                    </a:gs>
                    <a:gs pos="100000">
                      <a:srgbClr val="0000a4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4e8ac"/>
                    </a:gs>
                    <a:gs pos="100000">
                      <a:srgbClr val="8f5fd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f5fd5"/>
                    </a:gs>
                    <a:gs pos="100000">
                      <a:srgbClr val="0000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4e8a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1" marL="660960" indent="-254160">
              <a:spcBef>
                <a:spcPts val="799"/>
              </a:spcBef>
              <a:buClr>
                <a:srgbClr val="8f5fd5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2" marL="1017000" indent="-203400">
              <a:spcBef>
                <a:spcPts val="799"/>
              </a:spcBef>
              <a:buClr>
                <a:srgbClr val="cc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3" marL="1424160" indent="-203400">
              <a:spcBef>
                <a:spcPts val="799"/>
              </a:spcBef>
              <a:buClr>
                <a:srgbClr val="cc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4" marL="1830960" indent="-20340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5" marL="1830960" indent="-20340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6" marL="1830960" indent="-20340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60F7-D016-4F2A-A631-D700794F9763}" type="slidenum"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a4"/>
                      </a:gs>
                      <a:gs pos="100000">
                        <a:srgbClr val="0000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0000a4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4e8a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4e8a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BA06-A515-4AD9-8868-F81908CB0BE1}" type="slidenum"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cc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ccffff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hyperlink" Target="http://www.cellsalive.com/" TargetMode="External"/><Relationship Id="rId3" Type="http://schemas.openxmlformats.org/officeDocument/2006/relationships/hyperlink" Target="http://www.wikipedia.org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The Nucleus and Nucleolus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By: 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arla 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Lesheanna 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Destiny 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The nucleus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The nucleus was the first organelle to be discovered .The nucleus also known as the control center is a membrane enclosed organelle found in eukaryotic cells.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It contains most of the cell’s genetic material.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The main structures making up the nucleus is the nuclear envelope a double membrane that encloses the entire organelle. 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The Nucleolus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The nucleolus is a non-membrane bound structure composed of proteins and nucleic acids found within the nucleus.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The ribosomal RNA is transcribed in the nucleolus.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There are three main parts that are recognized: the fibrillar centers, the dense fibrillar component, and the granular components.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The cell nucleus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The function of the nucleus is to maintain the integrity of the genes and to control the activities of the cell by regulating gene expression. 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The nucleus is the control center of the cell. 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The cell nucleus has the directions for the proteins.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4667400" y="1828800"/>
            <a:ext cx="3752640" cy="426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The nucleolus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The nucleolus  is the main part of the cell that produces the  ribosomes that make the proteins. 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Sources 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www.google.com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www.cellsalive.com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www.wikipedia.org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p:transition>
    <p:wipe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98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98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15:20:03Z</dcterms:created>
  <dc:creator>tuldel</dc:creator>
  <dc:description/>
  <dc:language>en-US</dc:language>
  <cp:lastModifiedBy>Jennifer/Stites User</cp:lastModifiedBy>
  <dcterms:modified xsi:type="dcterms:W3CDTF">2009-07-11T00:55:51Z</dcterms:modified>
  <cp:revision>7</cp:revision>
  <dc:subject/>
  <dc:title>The Nucleus and Nucleolus</dc:title>
</cp:coreProperties>
</file>