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A891-7D4A-4DD0-8BCC-39E5927E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E6FE-B3D8-4071-88EF-1629CAA9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1087-3ABC-40B8-BC89-18678A8C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4B5-BCEC-4AA5-8F8F-8BA80A76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8022-9DAA-488A-8481-9AEC41F8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08F6-1E57-4B9B-B70B-F8385A69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DB69-8EF1-4C08-83DF-F19975B4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0588-893C-4E8E-BBB0-F2BFCE50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A75B-1FEE-4C91-819C-E7D5CD71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E48A-F7DD-44EF-BDAA-8714EF28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6796-3599-4825-9584-304C8F47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97A3-79EC-4162-9A84-7F84A439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3DB7-AA56-4543-B7E2-BFCF8F91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E266-A4C5-48D2-9FD9-CEF85FE0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6B73-A53E-4947-869B-412F2BFF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2797-C7A9-438C-B6DF-A97E1469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3192-F971-4AB4-A5B7-A38E4FAB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BB82-03D4-481B-81B8-B750B66A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2833-4D10-4BEA-871D-682D8D28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5C7D-5B32-4DF0-9EA9-6C612EB8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C413-2EBC-40CC-8D10-F9977C05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9B7A-A8AA-4955-B5AA-DA9AD10D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1192-2251-4E68-B4C7-7E10CFA3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10FF-3E15-4F9C-A325-F05AACF0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660960" indent="-2541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017000" indent="-20340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424160" indent="-20340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1830960" indent="-20340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1830960" indent="-20340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1830960" indent="-20340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BE47-172C-4FFF-B3B7-CED4658D3EBF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5A11-E161-41D9-A0AC-A526ACFE62D0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cc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ccffff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hyperlink" Target="http://www.cellsalive.com/" TargetMode="External"/><Relationship Id="rId3" Type="http://schemas.openxmlformats.org/officeDocument/2006/relationships/hyperlink" Target="http://www.wikipedia.org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The Nucleus and Nucleolus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By: 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arla 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Lesheanna 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Destiny 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The nucleus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 nucleus was the first organelle to be discovered .The nucleus also known as the control center is a membrane enclosed organelle found in eukaryotic cells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It contains most of the cell’s genetic material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 main structures making up the nucleus is the nuclear envelope a double membrane that encloses the entire organelle. 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The Nucleolus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 nucleolus is a non-membrane bound structure composed of proteins and nucleic acids found within the nucleus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 ribosomal RNA is transcribed in the nucleolus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re are three main parts that are recognized: the fibrillar centers, the dense fibrillar component, and the granular components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The cell nucleus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The function of the nucleus is to maintain the integrity of the genes and to control the activities of the cell by regulating gene expression. 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The nucleus is the control center of the cell. 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The cell nucleus has the directions for the proteins.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667400" y="1828800"/>
            <a:ext cx="3752640" cy="426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The nucleolus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The nucleolus  is the main part of the cell that produces the  ribosomes that make the proteins. 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Sources 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www.google.com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www.cellsalive.com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www.wikipedia.org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98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98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5:20:03Z</dcterms:created>
  <dc:creator>tuldel</dc:creator>
  <dc:description/>
  <dc:language>en-US</dc:language>
  <cp:lastModifiedBy>Jennifer/Stites User</cp:lastModifiedBy>
  <dcterms:modified xsi:type="dcterms:W3CDTF">2009-07-11T00:55:51Z</dcterms:modified>
  <cp:revision>7</cp:revision>
  <dc:subject/>
  <dc:title>The Nucleus and Nucleolus</dc:title>
</cp:coreProperties>
</file>