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05B-2633-41A6-9534-636026D9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8A0-B4A3-496F-9D4D-EA2B667B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88B-1EC4-4750-8572-45B56927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71C-8C2C-4EA6-A78D-6B5A2B34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8C19-1FFB-4072-83AC-680AC785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EB8B-4906-43D6-A111-EE211ACA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64A5-F2EE-4592-96C1-DB38CFC8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BE17-983F-4E06-B285-0A77059C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B67E-357E-41A4-89E8-A62E1D5B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AE1B-63AA-4C87-AE6F-16A24DD0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4F0F-5FD1-453D-8AC8-E306E8EA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18F-5B46-4438-9914-23AAD0FE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FDD6-AD2C-47B0-9202-755FA018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0CD7-66C5-47BF-A30D-1BA8BA56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798A-456C-4507-B284-EACF6118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1349-8161-4054-9949-A341A94B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B7E4-7819-4F9B-97AD-E8528F2D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30B1-C3D2-425C-B6FE-99CC35E7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76F-1D5F-48C9-985F-F19A31C5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F85-5E0F-425D-A18B-3EAA3910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8785-7499-410E-A076-BB5A0133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2CF-E89A-4AB3-891B-26E80A85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6D8-70D0-41CA-9246-3BAE9B79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EE0-6D14-4DCC-B02D-41E68A5F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2B32-E6E2-4E69-A880-1B29A8516A2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FC78-8DBF-420E-8213-69C9F5D68FB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ytoplasm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at’s insid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acts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ytoskeleton-the cytoskeleton is an elaborate array of protein fibers that help maintain cell shape, produce locomotion, provide mechanical strength, in chromosome separation during mitosis, and facilitate the intro-cellular transport of organell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ytoplasm- is basically the substance that fills the cell. It is jelly like material that is eighty percent water and usually clear in colo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t is more like a viscous [thick] get than a watery substance, but it liquefies when shaken or stirred cytoplas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ytoplasm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838080" y="1631880"/>
          <a:ext cx="6477120" cy="49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1880"/>
                    <a:ext cx="64771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roup members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yd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airryonn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errenc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22:37Z</dcterms:created>
  <dc:creator>Chicago Public Schools</dc:creator>
  <dc:description/>
  <dc:language>en-US</dc:language>
  <cp:lastModifiedBy>Jennifer/Stites User</cp:lastModifiedBy>
  <dcterms:modified xsi:type="dcterms:W3CDTF">2009-07-11T00:53:50Z</dcterms:modified>
  <cp:revision>4</cp:revision>
  <dc:subject/>
  <dc:title>Cytoplasm</dc:title>
</cp:coreProperties>
</file>