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F25-EC90-4E04-884F-8167A6EC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A26-4451-4D11-8C29-663795F2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57B-ADB1-4E2D-9BA9-B45443C7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F94-E7F0-4593-9E37-0603AA72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A80E-C1B7-4C3E-8C14-32D5745D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65EB-61C6-46C3-9849-0A095E2E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337E-AB70-4FAD-85CA-682C03E2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74AB-0128-4784-89CA-D7A116BD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DD27-0177-4447-A247-D34AAB90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1FAE-84CD-4EAD-8F9C-5BAA55F7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7E5C-53A9-4C9E-ACC1-8B10D802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FF0-594E-4F23-B6BE-B0483CC4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91F6-38BE-4CB4-B280-CD639E34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B7BA-5EE4-4372-AC59-984C6E1B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9736-C896-482C-A330-691C1F49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8AAE-A292-4DC0-88FC-1DF08932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8A72-2B53-4193-B24F-41235794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0097-D103-48DE-A1C5-CB4ECA50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67EB-F6CA-47CE-8129-C0E8178E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817-5393-4F7F-AD07-7276C385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9CD-C415-4B1A-AB37-521C34CF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2D4-3748-48C9-8C68-3BACA606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C22-9E72-46CD-9031-9E91B2E4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454E-33AD-44A2-8390-F9775A73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5422-7CBE-4CC5-B2BC-6EA42D8CE7A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C06B-08F0-4768-B92C-82F485F9AA9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ytoplasm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at’s insid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                  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Facts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ytoskeleton-the cytoskeleton is an elaborate array of protein fibers that help maintain cell shape, produce locomotion, provide mechanical strength, in chromosome separation during mitosis, and facilitate the intro-cellular transport of organell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ytoplasm- is basically the substance that fills the cell. It is jelly like material that is eighty percent water and usually clear in colo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t is more like a viscous [thick] get than a watery substance, but it liquefies when shaken or stirred cytoplasm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ytoplasm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838080" y="1631880"/>
          <a:ext cx="6477120" cy="49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1880"/>
                    <a:ext cx="647712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roup members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yd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airryonn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errenc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22:37Z</dcterms:created>
  <dc:creator>Chicago Public Schools</dc:creator>
  <dc:description/>
  <dc:language>en-US</dc:language>
  <cp:lastModifiedBy>Jennifer/Stites User</cp:lastModifiedBy>
  <dcterms:modified xsi:type="dcterms:W3CDTF">2009-07-11T00:53:50Z</dcterms:modified>
  <cp:revision>4</cp:revision>
  <dc:subject/>
  <dc:title>Cytoplasm</dc:title>
</cp:coreProperties>
</file>