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2F8-5542-43F3-8565-2533F0C8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F9A-5BEA-4E58-9A58-272D6267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EBC-941D-4A1A-AE5F-97F9B76A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543-B903-4A60-A636-E0FB9884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2141-E725-4790-A6AD-A46D5EC4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FB21-8086-4422-967A-C550A78B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3AF6-C641-4BBB-9D1E-994D8108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1D75-CE60-45E1-B6AC-7E69DE8F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9082-296C-436F-AC5F-1EA534A9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8F64-C607-4335-92E1-DCFFC72B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A74C-5DBE-4925-AD17-B0DBD4BD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6BC-6AF9-49CB-995D-AD3DED94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9AD3-96AB-4194-B874-E23564F5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6CD4-428D-4743-9C63-FE7E43A9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1E02-80A5-4BC8-A37D-D2E2A720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E376-15BC-4305-A5E8-E3FD3FFA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F7B2-38CC-4CAE-91B9-9A915DBC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71C-22DB-45EC-9B24-9E516A78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395-8884-43CF-BCB7-6FD4E8D1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151-DCDC-4426-9918-75052B14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4F7-DEAB-4236-ACCF-633BA62A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E19-743B-4A00-A547-CD82FBB1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B2C-C941-46E5-9C31-C00610D8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33F-6282-4018-8D6B-ADBF578D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AFCB-8CFE-4CC8-8451-154018B8EB1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FE6E-3918-4E08-831E-AF70FC11311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ytoplasm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’s insid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acts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ytoskeleton-the cytoskeleton is an elaborate array of protein fibers that help maintain cell shape, produce locomotion, provide mechanical strength, in chromosome separation during mitosis, and facilitate the intro-cellular transport of organell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ytoplasm- is basically the substance that fills the cell. It is jelly like material that is eighty percent water and usually clear in colo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 is more like a viscous [thick] get than a watery substance, but it liquefies when shaken or stirred cytoplas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ytoplasm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38080" y="1631880"/>
          <a:ext cx="647712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1880"/>
                    <a:ext cx="64771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roup members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yd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airryonn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rrenc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2:37Z</dcterms:created>
  <dc:creator>Chicago Public Schools</dc:creator>
  <dc:description/>
  <dc:language>en-US</dc:language>
  <cp:lastModifiedBy>Jennifer/Stites User</cp:lastModifiedBy>
  <dcterms:modified xsi:type="dcterms:W3CDTF">2009-07-11T00:53:50Z</dcterms:modified>
  <cp:revision>4</cp:revision>
  <dc:subject/>
  <dc:title>Cytoplasm</dc:title>
</cp:coreProperties>
</file>